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F681-2597-47D7-BB31-7938750F62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light industries used electricity not steam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s used oil not c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seams too narrow to use modern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mand so less cola w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s/cars used diesel/pe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untries had their own su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did not want/need a coal industry – unions too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for electricity was di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s, housing, health, crime, bright people had to leave, those who stayed had little future, edu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27A0C-964B-4415-9576-18A55C8F9B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179280" y="11253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79280" y="39459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1C287-EDDA-42E2-8E3E-EA6B3E1F1C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7928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8144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09959C-6ED0-4DBD-8CBA-20AAB0177C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17928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4964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12000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7928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4964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12000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6D5FC6-D468-43F5-8CFE-18E1D9B919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654A3E-06C6-4DBA-9219-D9E1272163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179280" y="1125360"/>
            <a:ext cx="8785440" cy="5399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650B37-E5A5-4719-A902-E4C770F80E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59CD7E-CD3B-450F-B18F-D651DB1C94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17928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8144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96B6976-F458-41DC-A9CB-300B3BEE81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5FA4FF34-D945-4E08-B4FA-94AF69C7AD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AB4F13-A658-4E53-9FFE-F6F915C901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8144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7928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C11718-F534-435F-B30B-2C79E2AD37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179280" y="1125360"/>
            <a:ext cx="8785440" cy="5399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B08F4-6688-4C4B-BD37-76DC73F7A2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17928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8144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076135-853B-4FF6-87FF-577D9C420C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179280" y="39459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A2E5826-64F0-40C9-890C-019BF52B2E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179280" y="11253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179280" y="39459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723A22E-8D88-4530-8C14-704EB1F192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7928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8144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1B7E97B-45F5-48F3-ACDF-C3302FD979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7928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14964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12000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17928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14964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12000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014BC75-576F-4233-96A2-CABF258C67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863D3-A403-4902-AB22-96ACAC9B9F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7928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8144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2ABEA-C3BA-444A-B565-99E20B074C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9FEA6280-0A25-45B3-97A4-80089B571D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8BCD893-924D-4857-AECB-65305CB5AE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144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7928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54E36-8794-4B7C-B960-27210AC7B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17928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144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2E30F-79A7-434D-9592-2A1826C68C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79280" y="39459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E11BE-61D5-4AF5-BDAF-85FBC1CA03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79280" y="1125360"/>
            <a:ext cx="8785440" cy="539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812000" y="6244920"/>
            <a:ext cx="874800" cy="476280"/>
          </a:xfrm>
          <a:prstGeom prst="rect">
            <a:avLst/>
          </a:prstGeom>
          <a:noFill/>
          <a:ln w="0">
            <a:noFill/>
          </a:ln>
        </p:spPr>
        <p:txBody>
          <a:bodyPr lIns="90000" rIns="90000" tIns="46800" bIns="4680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8A8A-5F9B-4F87-B51A-ACC93A7869A1}"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24280"/>
            <a:ext cx="8208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 name="PlaceHolder 2"/>
          <p:cNvSpPr>
            <a:spLocks noGrp="1"/>
          </p:cNvSpPr>
          <p:nvPr>
            <p:ph type="sldNum" idx="2"/>
          </p:nvPr>
        </p:nvSpPr>
        <p:spPr>
          <a:xfrm>
            <a:off x="7812000" y="6244920"/>
            <a:ext cx="874800" cy="476280"/>
          </a:xfrm>
          <a:prstGeom prst="rect">
            <a:avLst/>
          </a:prstGeom>
          <a:noFill/>
          <a:ln w="0">
            <a:noFill/>
          </a:ln>
        </p:spPr>
        <p:txBody>
          <a:bodyPr lIns="90000" rIns="90000" tIns="46800" bIns="4680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BD81-063F-48AF-A5C5-0B3BA119BC9E}"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pic>
        <p:nvPicPr>
          <p:cNvPr id="41" name="" descr=""/>
          <p:cNvPicPr/>
          <p:nvPr/>
        </p:nvPicPr>
        <p:blipFill>
          <a:blip r:embed="rId2"/>
          <a:stretch/>
        </p:blipFill>
        <p:spPr>
          <a:xfrm>
            <a:off x="250920" y="0"/>
            <a:ext cx="8893080" cy="4576680"/>
          </a:xfrm>
          <a:prstGeom prst="rect">
            <a:avLst/>
          </a:prstGeom>
          <a:ln w="0">
            <a:noFill/>
          </a:ln>
        </p:spPr>
      </p:pic>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gfl-cymru.org.uk/vtc/south_wales_coalfield/eng/Populationexplo/" TargetMode="External"/><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ngfl-cymru.org.uk/vtc/south_wales_coalfield/eng/SouthWalesin186" TargetMode="External"/><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724280"/>
            <a:ext cx="8208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it there? </a:t>
            </a:r>
            <a:br>
              <a:rPr sz="4000"/>
            </a:br>
            <a:r>
              <a:rPr b="0" lang="en-US" sz="4000" spc="-1" strike="noStrike">
                <a:solidFill>
                  <a:srgbClr val="000000"/>
                </a:solidFill>
                <a:latin typeface="Arial"/>
              </a:rPr>
              <a:t>What is happening now?</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EC42DF1-056D-4685-81F3-9E6691ACF4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4724280"/>
            <a:ext cx="8208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re a population explosion in the valley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5CA09515-0827-4C61-8051-021FA83D9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 mining depended on hard, physical labou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ustry was hungry for work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om in the south Wales coal industry attracted people to move to the area from the rural parts of Wales, but also in great numbers from Ireland, Scotland and England. The English speakers far outnumbered the Welsh speakers. The south Wales coalfield became a "melting pot" of different cultures and peo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hondda valleys became the centre of the coal industr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60 they had a population of around 3,000 peop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d jumped to 160,000 by 1910. </a:t>
            </a:r>
            <a:endParaRPr b="0" lang="en-US" sz="2800" spc="-1" strike="noStrike">
              <a:solidFill>
                <a:srgbClr val="000000"/>
              </a:solidFill>
              <a:latin typeface="Arial"/>
            </a:endParaRPr>
          </a:p>
        </p:txBody>
      </p:sp>
      <p:sp>
        <p:nvSpPr>
          <p:cNvPr id="103" name="PlaceHolder 2"/>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as there a population explosion in the valleys?</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39567B01-0E3C-4877-96D1-225EED82F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ng valleys developed their own unique cultu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communities grew up with people sharing the hardships that mine work brough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nd large the coal companies did little to help their work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frequent disputes over pay and condi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ers formed unions to try and look after their interests and improve their pay and condi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ng communities of the south Wales valleys became famous for their strength, and for their choirs, chapels, clubs and rugby te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colliery on the valley floor, terraced housing was built close by for the workers. The shape of the valley meant that there was little flat land and the houses had to fit in where they could.</a:t>
            </a:r>
            <a:endParaRPr b="0" lang="en-US" sz="2400" spc="-1" strike="noStrike">
              <a:solidFill>
                <a:srgbClr val="000000"/>
              </a:solidFill>
              <a:latin typeface="Arial"/>
            </a:endParaRPr>
          </a:p>
        </p:txBody>
      </p:sp>
      <p:sp>
        <p:nvSpPr>
          <p:cNvPr id="105" name="PlaceHolder 2"/>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as there a population explosion in the valleys?</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93F28354-4AA7-4843-BF72-5BDCDA4C2C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mining village like?</a:t>
            </a:r>
            <a:endParaRPr b="0" lang="en-US" sz="4000" spc="-1" strike="noStrike">
              <a:solidFill>
                <a:srgbClr val="000000"/>
              </a:solidFill>
              <a:latin typeface="Arial"/>
            </a:endParaRPr>
          </a:p>
        </p:txBody>
      </p:sp>
      <p:sp>
        <p:nvSpPr>
          <p:cNvPr id="107" name="PlaceHolder 2"/>
          <p:cNvSpPr>
            <a:spLocks noGrp="1"/>
          </p:cNvSpPr>
          <p:nvPr>
            <p:ph/>
          </p:nvPr>
        </p:nvSpPr>
        <p:spPr>
          <a:xfrm>
            <a:off x="179280" y="1125360"/>
            <a:ext cx="431640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this li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ngfl-cymru.org.uk/vtc/south_wales_coalfield/eng/Populationexp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 and drop the coloured squared to help you label your dia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48320" y="4365360"/>
            <a:ext cx="4316400" cy="2158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as the growth of coal-mining settlements influenced by relief (the shape of the land)? </a:t>
            </a:r>
            <a:endParaRPr b="0" lang="en-US" sz="2800" spc="-1" strike="noStrike">
              <a:solidFill>
                <a:srgbClr val="000000"/>
              </a:solidFill>
              <a:latin typeface="Arial"/>
            </a:endParaRPr>
          </a:p>
        </p:txBody>
      </p:sp>
      <p:pic>
        <p:nvPicPr>
          <p:cNvPr id="109" name="" descr=""/>
          <p:cNvPicPr/>
          <p:nvPr/>
        </p:nvPicPr>
        <p:blipFill>
          <a:blip r:embed="rId2"/>
          <a:srcRect l="30257" t="45919" r="31349" b="17345"/>
          <a:stretch/>
        </p:blipFill>
        <p:spPr>
          <a:xfrm>
            <a:off x="4714920" y="1052640"/>
            <a:ext cx="4321080" cy="2990880"/>
          </a:xfrm>
          <a:prstGeom prst="rect">
            <a:avLst/>
          </a:prstGeom>
          <a:ln w="0">
            <a:noFill/>
          </a:ln>
        </p:spPr>
      </p:pic>
      <p:sp>
        <p:nvSpPr>
          <p:cNvPr id="5" name="PlaceHolder 4"/>
          <p:cNvSpPr>
            <a:spLocks noGrp="1"/>
          </p:cNvSpPr>
          <p:nvPr>
            <p:ph type="sldNum" idx="1"/>
          </p:nvPr>
        </p:nvSpPr>
        <p:spPr/>
        <p:txBody>
          <a:bodyPr/>
          <a:p>
            <a:fld id="{8AD14BA9-5CD6-4CB9-AAB8-18DCB73B57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al was important to industry and very important to South Wales</a:t>
            </a:r>
            <a:endParaRPr b="0" lang="en-US" sz="3600" spc="-1" strike="noStrike">
              <a:solidFill>
                <a:srgbClr val="000000"/>
              </a:solidFill>
              <a:latin typeface="Arial"/>
            </a:endParaRPr>
          </a:p>
        </p:txBody>
      </p:sp>
      <p:sp>
        <p:nvSpPr>
          <p:cNvPr id="111"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vernment report said in 1919 that: "The prosperity of south Wales is entirely dependent on the export trade in co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ustry relied on exporting 70% of its produc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ole area, mining settlements and the docks, depended on co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mand for coal was falling and there were few other industries in south Wa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and steel making, and the manufacture of other metals, were also in decline because other countries had developed their own industr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66032-866F-4027-AF7F-B8B4F6071B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al was important to industry and very important to South Wales</a:t>
            </a:r>
            <a:endParaRPr b="0" lang="en-US" sz="3600" spc="-1" strike="noStrike">
              <a:solidFill>
                <a:srgbClr val="000000"/>
              </a:solidFill>
              <a:latin typeface="Arial"/>
            </a:endParaRPr>
          </a:p>
        </p:txBody>
      </p:sp>
      <p:sp>
        <p:nvSpPr>
          <p:cNvPr id="113"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20s and 1930s were decades of economic depression and poverty in the coalfields.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long strikes and bitter disputes between the company owners and the miners. The companies wanted to keep up their profits but often at the expense of miners' wages and job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34 unemployment rates of 60% were recorded in parts of the south Wales coalfiel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started to move away.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1931 and 1939, 160,000 people migrated from south Wales to look for work in the new industries being developed in other parts of Britai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dernise the industry, machines were needed instead of manual workers. Many of the coal seams in south Wales weren't suited to the use of modern mining machine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CF249-5B73-4AE8-9617-F9F78574A7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ere these reasons likely to lead to a decline in the coal industry?</a:t>
            </a:r>
            <a:endParaRPr b="0" lang="en-US" sz="3600" spc="-1" strike="noStrike">
              <a:solidFill>
                <a:srgbClr val="000000"/>
              </a:solidFill>
              <a:latin typeface="Arial"/>
            </a:endParaRPr>
          </a:p>
        </p:txBody>
      </p:sp>
      <p:sp>
        <p:nvSpPr>
          <p:cNvPr id="115" name="PlaceHolder 2"/>
          <p:cNvSpPr>
            <a:spLocks noGrp="1"/>
          </p:cNvSpPr>
          <p:nvPr>
            <p:ph/>
          </p:nvPr>
        </p:nvSpPr>
        <p:spPr>
          <a:xfrm>
            <a:off x="179280" y="1196640"/>
            <a:ext cx="8785440" cy="5327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ight indus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se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government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for electr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eople warmed their hom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3650E-128C-4C73-B245-61BB3FE5B0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as the impact of mine closures?</a:t>
            </a:r>
            <a:endParaRPr b="0" lang="en-US" sz="3600" spc="-1" strike="noStrike">
              <a:solidFill>
                <a:srgbClr val="000000"/>
              </a:solidFill>
              <a:latin typeface="Arial"/>
            </a:endParaRPr>
          </a:p>
        </p:txBody>
      </p:sp>
      <p:sp>
        <p:nvSpPr>
          <p:cNvPr id="117"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its peak nearly 300,000 miners had been employed in the coal industry. In 1945 there were 125,000 miners working in 135 pits in south Wales. By the early 1980s that had shrunk to 22,000, and by the early 1990s to below 1,00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communities were devastated when their pit closed. Families lost their income and without the miners' wages, shops and businesses lost tra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oved away to look for work, and those who stayed found it hard to find a decent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 since the 1930s the government has been trying to attract new industry to the valley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lsh Development Agency continues this work today. But the valleys offer few attractions as a location for modern factor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087FF-1F4D-4D55-97FD-F50C37778C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as the impact of mine closures?</a:t>
            </a:r>
            <a:endParaRPr b="0" lang="en-US" sz="3600" spc="-1" strike="noStrike">
              <a:solidFill>
                <a:srgbClr val="000000"/>
              </a:solidFill>
              <a:latin typeface="Arial"/>
            </a:endParaRPr>
          </a:p>
        </p:txBody>
      </p:sp>
      <p:sp>
        <p:nvSpPr>
          <p:cNvPr id="119"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panies setting up in Wales over the last 20 years or so have chosen locations near the M4, rather than in the narrow, built-up former mining settlements such as the Rhondda vall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e visible signs of the coal industry have largely been removed. Collieries have been replaced by supermarkets and small industrial units; the old slag heaps of waste rocks have been landscaped and planted with grass and tr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scars on the community are slow to heal, and most former mining communities face a range of social and economic problem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A2969-3D58-44A9-84E8-08435EEC9E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you remember …</a:t>
            </a:r>
            <a:endParaRPr b="0" lang="en-US" sz="4000" spc="-1" strike="noStrike">
              <a:solidFill>
                <a:srgbClr val="000000"/>
              </a:solidFill>
              <a:latin typeface="Arial"/>
            </a:endParaRPr>
          </a:p>
        </p:txBody>
      </p:sp>
      <p:sp>
        <p:nvSpPr>
          <p:cNvPr id="121"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we talked about development – before Christmas – that we said money being made by a community was important,  which was measured by its GDP because without it not very much could impro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at the standard of living and the quality of life of individuals that really showed how developed a country w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f a country has the same level of development – in fact some parts of most countries have a lower level of development that the re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B8581-6DDF-4748-84B9-2152D198E0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end you should understand…</a:t>
            </a:r>
            <a:endParaRPr b="0" lang="en-US" sz="4000" spc="-1" strike="noStrike">
              <a:solidFill>
                <a:srgbClr val="000000"/>
              </a:solidFill>
              <a:latin typeface="Arial"/>
            </a:endParaRPr>
          </a:p>
        </p:txBody>
      </p:sp>
      <p:sp>
        <p:nvSpPr>
          <p:cNvPr id="88"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s for the development of coal mining in south W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industrial development on population growth and settl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s for the decline of coal mining in south W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problems caused by the decline of the coal indust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mining in south Wales today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CF97E-3CC6-42E3-BDBA-8943B75069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 can you remember ..</a:t>
            </a:r>
            <a:endParaRPr b="0" lang="en-US" sz="4000" spc="-1" strike="noStrike">
              <a:solidFill>
                <a:srgbClr val="000000"/>
              </a:solidFill>
              <a:latin typeface="Arial"/>
            </a:endParaRPr>
          </a:p>
        </p:txBody>
      </p:sp>
      <p:sp>
        <p:nvSpPr>
          <p:cNvPr id="123" name="PlaceHolder 2"/>
          <p:cNvSpPr>
            <a:spLocks noGrp="1"/>
          </p:cNvSpPr>
          <p:nvPr>
            <p:ph/>
          </p:nvPr>
        </p:nvSpPr>
        <p:spPr>
          <a:xfrm>
            <a:off x="179280" y="1125360"/>
            <a:ext cx="8785440" cy="21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bout what it is like if you have a good quality of life?</a:t>
            </a:r>
            <a:endParaRPr b="0" lang="en-US" sz="3200" spc="-1" strike="noStrike">
              <a:solidFill>
                <a:srgbClr val="000000"/>
              </a:solidFill>
              <a:latin typeface="Arial"/>
            </a:endParaRPr>
          </a:p>
        </p:txBody>
      </p:sp>
      <p:sp>
        <p:nvSpPr>
          <p:cNvPr id="124" name="PlaceHolder 3"/>
          <p:cNvSpPr>
            <a:spLocks noGrp="1"/>
          </p:cNvSpPr>
          <p:nvPr>
            <p:ph/>
          </p:nvPr>
        </p:nvSpPr>
        <p:spPr>
          <a:xfrm>
            <a:off x="250560" y="2420640"/>
            <a:ext cx="8713800" cy="187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these things, what do you think has happened to the quality of life of people in the valleys of South Wales?</a:t>
            </a:r>
            <a:endParaRPr b="0" lang="en-US" sz="3200" spc="-1" strike="noStrike">
              <a:solidFill>
                <a:srgbClr val="000000"/>
              </a:solidFill>
              <a:latin typeface="Arial"/>
            </a:endParaRPr>
          </a:p>
        </p:txBody>
      </p:sp>
      <p:sp>
        <p:nvSpPr>
          <p:cNvPr id="125" name=""/>
          <p:cNvSpPr/>
          <p:nvPr/>
        </p:nvSpPr>
        <p:spPr>
          <a:xfrm>
            <a:off x="250920" y="4292640"/>
            <a:ext cx="8713800" cy="2160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in terms of development, that South Wales i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wer than quite a lot of the UK?</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as got worse in recent time?</a:t>
            </a: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5F6CE-9067-46FD-9219-E4AE2B0867A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th Wales in 1860</a:t>
            </a:r>
            <a:endParaRPr b="0" lang="en-US" sz="4000" spc="-1" strike="noStrike">
              <a:solidFill>
                <a:srgbClr val="000000"/>
              </a:solidFill>
              <a:latin typeface="Arial"/>
            </a:endParaRPr>
          </a:p>
        </p:txBody>
      </p:sp>
      <p:sp>
        <p:nvSpPr>
          <p:cNvPr id="90"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 had been mined on a small scale in south Wales for centuries, but the area was still mainly rural until the start of the Industrial Revolution in the late 170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Wales had three very important raw materials that could be used to make iron. Firstly it had iron ore (a rock containing iron), secondly it had coal that was used to heat the iron ore and make it molten so that the iron was separated from the rest of the rock. Finally, it had limestone that was used in iron making to speed up the whole proc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hree important raw materials were found close to each other. This was a tremendous advantage given the high cost of transporting heavy rock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A20AD-60BB-498E-AB02-DD751607F4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573000"/>
            <a:ext cx="8208720" cy="2621160"/>
          </a:xfrm>
          <a:prstGeom prst="rect">
            <a:avLst/>
          </a:prstGeom>
          <a:solidFill>
            <a:srgbClr val="bbe0e3"/>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link : </a:t>
            </a:r>
            <a:r>
              <a:rPr b="0" lang="en-US" sz="2400" spc="-1" strike="noStrike" u="sng">
                <a:solidFill>
                  <a:srgbClr val="009999"/>
                </a:solidFill>
                <a:uFillTx/>
                <a:latin typeface="Arial"/>
                <a:hlinkClick r:id="rId1"/>
              </a:rPr>
              <a:t>http://www.ngfl-cymru.org.uk/vtc/south_wales_coalfield/eng/SouthWalesin186</a:t>
            </a:r>
            <a:r>
              <a:rPr b="0" lang="en-US" sz="2400" spc="-1" strike="noStrike" u="sng">
                <a:solidFill>
                  <a:srgbClr val="000000"/>
                </a:solidFill>
                <a:uFillTx/>
                <a:latin typeface="Arial"/>
              </a:rPr>
              <a:t> </a:t>
            </a:r>
            <a:br>
              <a:rPr sz="2400"/>
            </a:br>
            <a:r>
              <a:rPr b="0" lang="en-US" sz="2400" spc="-1" strike="noStrike">
                <a:solidFill>
                  <a:srgbClr val="000000"/>
                </a:solidFill>
                <a:latin typeface="Arial"/>
              </a:rPr>
              <a:t>and go to the bottom of the page and there you will see a map just like the one on your worksheet</a:t>
            </a:r>
            <a:br>
              <a:rPr sz="2400"/>
            </a:br>
            <a:r>
              <a:rPr b="0" lang="en-US" sz="2400" spc="-1" strike="noStrike">
                <a:solidFill>
                  <a:srgbClr val="000000"/>
                </a:solidFill>
                <a:latin typeface="Arial"/>
              </a:rPr>
              <a:t>If you click on each items in the key – start with coal – and you will be able to show where each item is on your map</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B5A7C59-C0C4-4CF0-9FED-99E447A86F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581000"/>
            <a:ext cx="8208720" cy="1613160"/>
          </a:xfrm>
          <a:prstGeom prst="rect">
            <a:avLst/>
          </a:prstGeom>
          <a:solidFill>
            <a:srgbClr val="bbe0e3"/>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early coal could be taken from the valley sides</a:t>
            </a:r>
            <a:br>
              <a:rPr sz="2400"/>
            </a:br>
            <a:r>
              <a:rPr b="0" lang="en-US" sz="2400" spc="-1" strike="noStrike">
                <a:solidFill>
                  <a:srgbClr val="000000"/>
                </a:solidFill>
                <a:latin typeface="Arial"/>
              </a:rPr>
              <a:t>But soon it became necessary to dig deep into the valley bottom</a:t>
            </a:r>
            <a:endParaRPr b="0" lang="en-US" sz="2400" spc="-1" strike="noStrike">
              <a:solidFill>
                <a:srgbClr val="000000"/>
              </a:solidFill>
              <a:latin typeface="Arial"/>
            </a:endParaRPr>
          </a:p>
        </p:txBody>
      </p:sp>
      <p:sp>
        <p:nvSpPr>
          <p:cNvPr id="93" name=""/>
          <p:cNvSpPr/>
          <p:nvPr/>
        </p:nvSpPr>
        <p:spPr>
          <a:xfrm>
            <a:off x="1258920" y="2502000"/>
            <a:ext cx="1152360" cy="397080"/>
          </a:xfrm>
          <a:prstGeom prst="wedgeRoundRectCallout">
            <a:avLst>
              <a:gd name="adj1" fmla="val 199967"/>
              <a:gd name="adj2" fmla="val -137949"/>
              <a:gd name="adj3" fmla="val 16667"/>
            </a:avLst>
          </a:prstGeom>
          <a:solidFill>
            <a:srgbClr val="ffc285"/>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 head</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FCD6A64-64FB-41D9-A315-D67E2A64B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333360"/>
            <a:ext cx="8785440" cy="6191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ng was a dirty and dangerous job and in the early part of the 1800s women and children worked underground alongside the men. The work was done by hand with a pick and shove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 ponies dragged the coal back to the shaft to be brought up to the surface. The ponies spent all their working lives underground, only being brought to the surface when they were too old to wor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idents were common, either from roof collapses or gas explos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everal occasions hundreds of miners were killed. Spending money on safety sometimes seemed less important for the coal companies than making good profi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ound 3,000 miners died in accidents between 1850 and 191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al seams in south Wales are quite narrow and at different levels. The mine shafts had to follow the coal seams as they went up and down.</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7A84DA7-506A-4A13-A180-BF711215D1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79280" y="260280"/>
            <a:ext cx="4680000" cy="640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first coal was used mainly in the iron industry. But south Wales coal was of such high quality that it became popular all over the worl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middle of the 1800s two major developments in transport provided a great boost to the indus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1800s canals were used to transport coal from the valleys down to the do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n rail replaced canals the industry really took off.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lways from the Rhondda valley and other coal-mining valleys ran fairly short distances down to the booming docks at Cardiff, Newport and Swansea.</a:t>
            </a:r>
            <a:endParaRPr b="0" lang="en-US" sz="2400" spc="-1" strike="noStrike">
              <a:solidFill>
                <a:srgbClr val="000000"/>
              </a:solidFill>
              <a:latin typeface="Arial"/>
            </a:endParaRPr>
          </a:p>
        </p:txBody>
      </p:sp>
      <p:sp>
        <p:nvSpPr>
          <p:cNvPr id="96" name="PlaceHolder 2"/>
          <p:cNvSpPr>
            <a:spLocks noGrp="1"/>
          </p:cNvSpPr>
          <p:nvPr>
            <p:ph/>
          </p:nvPr>
        </p:nvSpPr>
        <p:spPr>
          <a:xfrm>
            <a:off x="5076720" y="3499920"/>
            <a:ext cx="3888000" cy="302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map of South Wales and notice how the river valleys naturally provided routes down to the coas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1870, 50% of the coal was being exported overseas. </a:t>
            </a:r>
            <a:endParaRPr b="0" lang="en-US" sz="2400" spc="-1" strike="noStrike">
              <a:solidFill>
                <a:srgbClr val="000000"/>
              </a:solidFill>
              <a:latin typeface="Arial"/>
            </a:endParaRPr>
          </a:p>
        </p:txBody>
      </p:sp>
      <p:pic>
        <p:nvPicPr>
          <p:cNvPr id="97" name="" descr=""/>
          <p:cNvPicPr/>
          <p:nvPr/>
        </p:nvPicPr>
        <p:blipFill>
          <a:blip r:embed="rId1"/>
          <a:srcRect l="29526" t="46929" r="32098" b="16335"/>
          <a:stretch/>
        </p:blipFill>
        <p:spPr>
          <a:xfrm>
            <a:off x="4788000" y="260280"/>
            <a:ext cx="4174920" cy="2890800"/>
          </a:xfrm>
          <a:prstGeom prst="rect">
            <a:avLst/>
          </a:prstGeom>
          <a:ln w="0">
            <a:noFill/>
          </a:ln>
        </p:spPr>
      </p:pic>
      <p:sp>
        <p:nvSpPr>
          <p:cNvPr id="4" name="PlaceHolder 3"/>
          <p:cNvSpPr>
            <a:spLocks noGrp="1"/>
          </p:cNvSpPr>
          <p:nvPr>
            <p:ph type="sldNum" idx="1"/>
          </p:nvPr>
        </p:nvSpPr>
        <p:spPr/>
        <p:txBody>
          <a:bodyPr/>
          <a:p>
            <a:fld id="{A9926E5F-3C68-45A0-8491-9609E4C56B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ere the river valleys important in the growth of Cardiff docks?</a:t>
            </a:r>
            <a:endParaRPr b="0" lang="en-US" sz="3600" spc="-1" strike="noStrike">
              <a:solidFill>
                <a:srgbClr val="000000"/>
              </a:solidFill>
              <a:latin typeface="Arial"/>
            </a:endParaRPr>
          </a:p>
        </p:txBody>
      </p:sp>
      <p:pic>
        <p:nvPicPr>
          <p:cNvPr id="99" name="" descr=""/>
          <p:cNvPicPr/>
          <p:nvPr/>
        </p:nvPicPr>
        <p:blipFill>
          <a:blip r:embed="rId1"/>
          <a:srcRect l="29526" t="46929" r="32098" b="16335"/>
          <a:stretch/>
        </p:blipFill>
        <p:spPr>
          <a:xfrm>
            <a:off x="1187280" y="1628640"/>
            <a:ext cx="6697800" cy="4637160"/>
          </a:xfrm>
          <a:prstGeom prst="rect">
            <a:avLst/>
          </a:prstGeom>
          <a:ln w="0">
            <a:noFill/>
          </a:ln>
        </p:spPr>
      </p:pic>
      <p:sp>
        <p:nvSpPr>
          <p:cNvPr id="3" name="PlaceHolder 2"/>
          <p:cNvSpPr>
            <a:spLocks noGrp="1"/>
          </p:cNvSpPr>
          <p:nvPr>
            <p:ph type="sldNum" idx="1"/>
          </p:nvPr>
        </p:nvSpPr>
        <p:spPr/>
        <p:txBody>
          <a:bodyPr/>
          <a:p>
            <a:fld id="{B5BC4D44-0787-46F1-84B0-282487C17D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il network was built throughout Britain and Europe - the steam trains ran on coal and south Wales coal was in much dem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il network made it easier to transport coal to the rest of Britain. Railways in far away British colonies such as India and in Africa used coal from W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s switched from sail to steam power. As early as 1851 the British navy decided that Welsh coal was the best coal for its ships. Navies and merchant ships around the world used coal from south W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physical geography of south Wales had given the region a great advantage over other coal-producing areas. The river valleys gave transport routes and the steep valleys made it easy to mine down to the coal.</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3C261E7-93AB-46E9-BDD3-0A64F56E9B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22:47:54Z</dcterms:created>
  <dc:creator>Lindy</dc:creator>
  <dc:description/>
  <dc:language>en-US</dc:language>
  <cp:lastModifiedBy>Lindy</cp:lastModifiedBy>
  <dcterms:modified xsi:type="dcterms:W3CDTF">2009-03-14T00:56:13Z</dcterms:modified>
  <cp:revision>2</cp:revision>
  <dc:subject/>
  <dc:title>Slide 1</dc:title>
</cp:coreProperties>
</file>